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F27-8F6E-4F74-AA98-4166BFE1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54D-FD23-41AA-8DF2-32356A63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D5C-3E0C-4014-9D8C-B1BC658E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FE6-221E-4BF7-A1BC-E73206B7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A8A-0A6B-44D6-A127-78A9E4D8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B09-C824-472A-8A2D-8EE27B89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A69-79AA-4829-9072-C0F6FF05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BF2-8CED-414D-AFBD-B197B5CE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436-7441-49B5-A5CD-8CA614D9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947-EA5E-4FB2-87BF-C83B4C86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20A-1A8B-4D54-A7AE-3DFDA07F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C79-EEDE-43A5-8D83-89ECE53A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ED0F-2606-43C8-B1D2-7A1E9AEB2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2666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لبي صحراءٌ دام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فة لا ماءَ في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بنا ماءَ الحيا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فيضُ فيها ويُحيي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pirit-jesus" descr="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0"/>
            <a:ext cx="7620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قلبي صحراءٌ دامسة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جافة لا ماءَ فيه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هبنا ماءَ الحياة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فيفيضُ فيها ويُحييها</a:t>
            </a:r>
            <a:r>
              <a:rPr b="0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rayboy1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3124080" cy="9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تعالَ في عمقِ يأس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يها الروحُ المعز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حررني جددني واملأن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أتَهَلّلَ بذِكر الرب</a:t>
            </a:r>
            <a:r>
              <a:rPr b="0" lang="ar-SA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yingdove" descr=""/>
          <p:cNvPicPr/>
          <p:nvPr/>
        </p:nvPicPr>
        <p:blipFill>
          <a:blip r:embed="rId2"/>
          <a:stretch/>
        </p:blipFill>
        <p:spPr>
          <a:xfrm>
            <a:off x="5943600" y="135000"/>
            <a:ext cx="28954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pirit-g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352680" cy="71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ستسلمُ بين يديك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 روحَ الله الح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م وانفح في روح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أُعلنْ أن يسوعَ حي</a:t>
            </a:r>
            <a:r>
              <a:rPr b="0" lang="ar-SA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00:43Z</dcterms:created>
  <dc:creator>SUZANNE.MD</dc:creator>
  <dc:description/>
  <dc:language>en-US</dc:language>
  <cp:lastModifiedBy>SUZANNE.MD</cp:lastModifiedBy>
  <dcterms:modified xsi:type="dcterms:W3CDTF">2003-05-22T09:35:26Z</dcterms:modified>
  <cp:revision>1</cp:revision>
  <dc:subject/>
  <dc:title>PowerPoint Presentation</dc:title>
</cp:coreProperties>
</file>